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A9D4-EF1E-4075-A064-C92C1BC2D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5513-30E8-45AD-A683-36C5876436F4}" type="slidenum">
              <a:rPr b="0" lang="en-US" sz="12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DCD0-51F8-4ECA-A06B-87AD115A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ED0A-2EC2-4981-A235-F7020BE9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9959-3C33-44E2-9DAD-EA33E509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9889-3276-4021-97E3-22CCD4DA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A654-2C36-4479-B8D3-6465D336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A093-24E8-4085-8C17-E71B8336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6804-D86D-421F-9A32-C96C928C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E939-C479-4D39-AD0B-1805DF8D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BE3D-C8E6-440A-BA68-58E76D61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DFA8-002F-4409-ACCE-61DAD794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4651-A26A-419A-A58D-06D9E606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47C4-884E-4720-BB9E-2E2F2B7A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1CDC-64ED-4AFF-87DE-52FA4DEF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991C-FAE3-43B6-B0AD-62927C66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0160-E93F-4052-9AF1-F6B822FB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594C-5294-4AE2-89DF-FC302F28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5503-DCFF-4295-AF35-030B0E62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ACB-91F9-4706-93A9-E523AB2D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FA49-3797-427D-8D1F-35CEC080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BB76-2CD9-4FEE-9824-FA8D4FF1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6AD-85F0-4952-9E8A-37D341C6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8A87-A49F-46A5-99D6-75831A61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D87F-08E9-497E-9382-40A5AA26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AF3A-FE11-411D-90CE-DDBB67E5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C49D-2A15-4B42-8106-05CEFF028C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E723-C051-489F-9161-C7A23C83EF6D}" type="slidenum">
              <a:rPr b="0" lang="en-US" sz="10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lideshare.net/bjansen08/big6-primary-arlington-isd-and-esc-xi-2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cdff"/>
                </a:solidFill>
                <a:latin typeface="Arial Black"/>
              </a:rPr>
              <a:t>Research=Big 6!</a:t>
            </a:r>
            <a:endParaRPr b="0" lang="en-US" sz="44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0f6"/>
                </a:solidFill>
                <a:latin typeface="Arial"/>
              </a:rPr>
              <a:t>Helping elementary teachers navigate teaching the research proce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advTm="1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04920" y="1828800"/>
          <a:ext cx="8534160" cy="471024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My Name: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My Topic: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Source 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(name of sourc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Source 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(name of sourc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Source 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(name of sourc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50832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64584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6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  <a:tr h="50832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8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cdff"/>
                </a:solidFill>
                <a:latin typeface="Arial Black"/>
              </a:rPr>
              <a:t>The Data Chart</a:t>
            </a:r>
            <a:endParaRPr b="0" lang="en-US" sz="3200" spc="-1" strike="noStrike">
              <a:solidFill>
                <a:srgbClr val="fbcdff"/>
              </a:solidFill>
              <a:latin typeface="Arial Black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920" y="1828800"/>
          <a:ext cx="8534160" cy="471024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My Name: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My Topic: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Source 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(name of sourc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Source 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(name of sourc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Source 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(name of sourc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50832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64584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6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  <a:tr h="50832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8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(write question here)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</a:tbl>
          </a:graphicData>
        </a:graphic>
      </p:graphicFrame>
      <p:sp>
        <p:nvSpPr>
          <p:cNvPr id="137" name="Flowchart: Connector 7"/>
          <p:cNvSpPr/>
          <p:nvPr/>
        </p:nvSpPr>
        <p:spPr>
          <a:xfrm>
            <a:off x="2133720" y="1676520"/>
            <a:ext cx="6248160" cy="838080"/>
          </a:xfrm>
          <a:prstGeom prst="flowChartConnector">
            <a:avLst/>
          </a:prstGeom>
          <a:noFill/>
          <a:ln w="57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Flowchart: Connector 8"/>
          <p:cNvSpPr/>
          <p:nvPr/>
        </p:nvSpPr>
        <p:spPr>
          <a:xfrm>
            <a:off x="76320" y="1447920"/>
            <a:ext cx="8915400" cy="5029200"/>
          </a:xfrm>
          <a:prstGeom prst="flowChartConnector">
            <a:avLst/>
          </a:prstGeom>
          <a:noFill/>
          <a:ln w="57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Flowchart: Connector 9"/>
          <p:cNvSpPr/>
          <p:nvPr/>
        </p:nvSpPr>
        <p:spPr>
          <a:xfrm>
            <a:off x="228600" y="2057400"/>
            <a:ext cx="1143000" cy="228600"/>
          </a:xfrm>
          <a:prstGeom prst="flowChartConnector">
            <a:avLst/>
          </a:prstGeom>
          <a:noFill/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Flowchart: Connector 10"/>
          <p:cNvSpPr/>
          <p:nvPr/>
        </p:nvSpPr>
        <p:spPr>
          <a:xfrm rot="5400000">
            <a:off x="-914760" y="3429000"/>
            <a:ext cx="4267080" cy="2133720"/>
          </a:xfrm>
          <a:prstGeom prst="flowChartConnector">
            <a:avLst/>
          </a:prstGeom>
          <a:noFill/>
          <a:ln w="57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1" name="Rectangle 11" descr=""/>
          <p:cNvPicPr/>
          <p:nvPr/>
        </p:nvPicPr>
        <p:blipFill>
          <a:blip r:embed="rId1"/>
          <a:stretch/>
        </p:blipFill>
        <p:spPr>
          <a:xfrm>
            <a:off x="914400" y="396720"/>
            <a:ext cx="2724120" cy="2078280"/>
          </a:xfrm>
          <a:prstGeom prst="rect">
            <a:avLst/>
          </a:prstGeom>
          <a:ln w="0">
            <a:noFill/>
          </a:ln>
        </p:spPr>
      </p:pic>
      <p:pic>
        <p:nvPicPr>
          <p:cNvPr id="142" name="Rectangle 12" descr=""/>
          <p:cNvPicPr/>
          <p:nvPr/>
        </p:nvPicPr>
        <p:blipFill>
          <a:blip r:embed="rId2"/>
          <a:stretch/>
        </p:blipFill>
        <p:spPr>
          <a:xfrm>
            <a:off x="2743200" y="2487600"/>
            <a:ext cx="5310360" cy="1584360"/>
          </a:xfrm>
          <a:prstGeom prst="rect">
            <a:avLst/>
          </a:prstGeom>
          <a:ln w="0">
            <a:noFill/>
          </a:ln>
        </p:spPr>
      </p:pic>
      <p:pic>
        <p:nvPicPr>
          <p:cNvPr id="143" name="Rectangle 13" descr=""/>
          <p:cNvPicPr/>
          <p:nvPr/>
        </p:nvPicPr>
        <p:blipFill>
          <a:blip r:embed="rId3"/>
          <a:stretch/>
        </p:blipFill>
        <p:spPr>
          <a:xfrm>
            <a:off x="2212920" y="4395960"/>
            <a:ext cx="3425760" cy="657000"/>
          </a:xfrm>
          <a:prstGeom prst="rect">
            <a:avLst/>
          </a:prstGeom>
          <a:ln w="0">
            <a:noFill/>
          </a:ln>
        </p:spPr>
      </p:pic>
      <p:pic>
        <p:nvPicPr>
          <p:cNvPr id="144" name="Rectangle 14" descr=""/>
          <p:cNvPicPr/>
          <p:nvPr/>
        </p:nvPicPr>
        <p:blipFill>
          <a:blip r:embed="rId4"/>
          <a:stretch/>
        </p:blipFill>
        <p:spPr>
          <a:xfrm>
            <a:off x="6632640" y="1195560"/>
            <a:ext cx="2073240" cy="657000"/>
          </a:xfrm>
          <a:prstGeom prst="rect">
            <a:avLst/>
          </a:prstGeom>
          <a:ln w="0">
            <a:noFill/>
          </a:ln>
        </p:spPr>
      </p:pic>
    </p:spTree>
  </p:cSld>
  <p:transition advTm="13000"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7" dur="1" fill="hold"/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8" dur="1" fill="hold"/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Which one to us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Data Char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9810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Individual, small group or whole group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Teacher/Librarian lead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Student progress data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Time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epends on the topic and how long the instructor wants to tak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Research Journal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7960" y="19810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Individual, small group, or whole group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Teacher/librarian can model using this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Students use the information from the data sheet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Time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epends on the topic and how long the instructor wants to take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50" name="Rectangle 6" descr=""/>
          <p:cNvPicPr/>
          <p:nvPr/>
        </p:nvPicPr>
        <p:blipFill>
          <a:blip r:embed="rId1"/>
          <a:stretch/>
        </p:blipFill>
        <p:spPr>
          <a:xfrm>
            <a:off x="407880" y="5662440"/>
            <a:ext cx="8487000" cy="9036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Example: Author Study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28600" y="1676520"/>
          <a:ext cx="8534520" cy="4709880"/>
        </p:xfrm>
        <a:graphic>
          <a:graphicData uri="http://schemas.openxmlformats.org/drawingml/2006/table">
            <a:tbl>
              <a:tblPr/>
              <a:tblGrid>
                <a:gridCol w="2133720"/>
                <a:gridCol w="2133360"/>
                <a:gridCol w="2133720"/>
                <a:gridCol w="2133720"/>
              </a:tblGrid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My Name: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My Topic: Kevin Henke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Source 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Website: kevinhenkes.com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Source 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Book jacket: 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Source 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Website: netTrekker.com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What books has he written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Does he have a favorite book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Where does he live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4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How old is he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5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When did he first start writing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64620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6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Does he have a family?</a:t>
                      </a:r>
                      <a:endParaRPr b="0" lang="en-US" sz="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7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What was his first book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50796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8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Does he illustrate his own books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</a:tbl>
          </a:graphicData>
        </a:graphic>
      </p:graphicFrame>
    </p:spTree>
  </p:cSld>
  <p:transition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Example: Butterfl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04920" y="1447920"/>
          <a:ext cx="8534160" cy="484164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64260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My Name: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My Topic: Butterflies</a:t>
                      </a:r>
                      <a:endParaRPr b="0" lang="en-US" sz="12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Source 1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Trade Book: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Source 2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World Book Encyclopedia B Edition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Source 3</a:t>
                      </a: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ae6f0"/>
                          </a:solidFill>
                          <a:latin typeface="Arial"/>
                        </a:rPr>
                        <a:t>Butterfly Farmer: Frank Butter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18720">
                      <a:solidFill>
                        <a:srgbClr val="fae6f0"/>
                      </a:solidFill>
                    </a:lnB>
                    <a:solidFill>
                      <a:srgbClr val="790082"/>
                    </a:solidFill>
                  </a:tcPr>
                </a:tc>
              </a:tr>
              <a:tr h="50544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1  </a:t>
                      </a: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How many stages are in the butterfly life cycle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1872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50544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2  </a:t>
                      </a: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How long is each stage in the butterfly life cycle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  <a:tr h="64260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3  </a:t>
                      </a: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What are the names of each stage of the butterfly life cycle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50544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4   </a:t>
                      </a: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How many parts does a butterfly have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  <a:tr h="36828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5  </a:t>
                      </a: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What do butterflies eat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64260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6  </a:t>
                      </a:r>
                      <a:r>
                        <a:rPr b="0" lang="en-US" sz="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Where do butterflies live?</a:t>
                      </a:r>
                      <a:endParaRPr b="0" lang="en-US" sz="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  <a:tr h="50544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7  </a:t>
                      </a: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What kind of butterflies live around here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d7cbd8"/>
                    </a:solidFill>
                  </a:tcPr>
                </a:tc>
              </a:tr>
              <a:tr h="505440"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. 8  </a:t>
                      </a:r>
                      <a:r>
                        <a:rPr b="0" lang="en-US" sz="9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How do butterflies protect themselves?</a:t>
                      </a:r>
                      <a:endParaRPr b="0" lang="en-US" sz="9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  <a:tc>
                  <a:txBody>
                    <a:bodyPr lIns="138960" rIns="1389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138960" marR="138960">
                    <a:lnL w="5760">
                      <a:solidFill>
                        <a:srgbClr val="fae6f0"/>
                      </a:solidFill>
                    </a:lnL>
                    <a:lnR w="5760">
                      <a:solidFill>
                        <a:srgbClr val="fae6f0"/>
                      </a:solidFill>
                    </a:lnR>
                    <a:lnT w="5760">
                      <a:solidFill>
                        <a:srgbClr val="fae6f0"/>
                      </a:solidFill>
                    </a:lnT>
                    <a:lnB w="5760">
                      <a:solidFill>
                        <a:srgbClr val="fae6f0"/>
                      </a:solidFill>
                    </a:lnB>
                    <a:solidFill>
                      <a:srgbClr val="ece7ed"/>
                    </a:solidFill>
                  </a:tcPr>
                </a:tc>
              </a:tr>
            </a:tbl>
          </a:graphicData>
        </a:graphic>
      </p:graphicFrame>
    </p:spTree>
  </p:cSld>
  <p:transition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523880" y="2925720"/>
          <a:ext cx="6096240" cy="7318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Citations </a:t>
            </a:r>
            <a:r>
              <a:rPr b="0" lang="en-US" sz="1200" spc="-1" strike="noStrike">
                <a:solidFill>
                  <a:srgbClr val="fbcdff"/>
                </a:solidFill>
                <a:latin typeface="Arial Black"/>
              </a:rPr>
              <a:t>(thank you list)</a:t>
            </a: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Jansen, Barbara A. </a:t>
            </a:r>
            <a:r>
              <a:rPr b="0" lang="en-US" sz="1600" spc="-1" strike="noStrike" u="sng">
                <a:solidFill>
                  <a:srgbClr val="080808"/>
                </a:solidFill>
                <a:uFillTx/>
                <a:latin typeface="Arial"/>
              </a:rPr>
              <a:t>The Big 6 Goes Primary.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Columbus: Linworth Publishing, Inc., 2009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Eisenberg, Mike and Robert E Berkowitz. </a:t>
            </a:r>
            <a:r>
              <a:rPr b="0" lang="en-US" sz="1600" spc="-1" strike="noStrike" u="sng">
                <a:solidFill>
                  <a:srgbClr val="080808"/>
                </a:solidFill>
                <a:uFillTx/>
                <a:latin typeface="Arial"/>
              </a:rPr>
              <a:t>The Big6 Information &amp; Technology Skills for Student Achievement.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2009. 8 October 2009 &lt;http://www.big6.com&gt;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Hicks, Mark. "Discovery Education's Clip Art Gallery." 2009. </a:t>
            </a:r>
            <a:r>
              <a:rPr b="0" lang="en-US" sz="1600" spc="-1" strike="noStrike" u="sng">
                <a:solidFill>
                  <a:srgbClr val="080808"/>
                </a:solidFill>
                <a:uFillTx/>
                <a:latin typeface="Arial"/>
              </a:rPr>
              <a:t>Discovery Education.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18 October 2009 &lt;http://school.discoveryeducation.com/clipart/category/awrd0001.html&gt;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"Big6 Primary Arlington ISD and ESC XI (2) " 10/19/2009 &lt;</a:t>
            </a:r>
            <a:r>
              <a:rPr b="0" lang="en-US" sz="1600" spc="-1" strike="noStrike" u="sng">
                <a:solidFill>
                  <a:srgbClr val="9933ff"/>
                </a:solidFill>
                <a:uFillTx/>
                <a:latin typeface="Arial"/>
                <a:hlinkClick r:id="rId1"/>
              </a:rPr>
              <a:t>http://www.slideshare.net/bjansen08/big6-primary-arlington-isd-and-esc-xi-2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&gt;.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advTm="1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New elementary research TEKS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Feeling Like This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Want to feel like this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4" name="Content Placeholder 11" descr="hello.gif"/>
          <p:cNvPicPr/>
          <p:nvPr/>
        </p:nvPicPr>
        <p:blipFill>
          <a:blip r:embed="rId1"/>
          <a:stretch/>
        </p:blipFill>
        <p:spPr>
          <a:xfrm>
            <a:off x="685800" y="2362320"/>
            <a:ext cx="3497400" cy="330660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13" descr="movinup.gif"/>
          <p:cNvPicPr/>
          <p:nvPr/>
        </p:nvPicPr>
        <p:blipFill>
          <a:blip r:embed="rId2"/>
          <a:stretch/>
        </p:blipFill>
        <p:spPr>
          <a:xfrm>
            <a:off x="5334120" y="2286000"/>
            <a:ext cx="2711160" cy="325440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14" descr=""/>
          <p:cNvPicPr/>
          <p:nvPr/>
        </p:nvPicPr>
        <p:blipFill>
          <a:blip r:embed="rId3"/>
          <a:stretch/>
        </p:blipFill>
        <p:spPr>
          <a:xfrm>
            <a:off x="5321160" y="2535120"/>
            <a:ext cx="903600" cy="658800"/>
          </a:xfrm>
          <a:prstGeom prst="rect">
            <a:avLst/>
          </a:prstGeom>
          <a:ln w="0">
            <a:noFill/>
          </a:ln>
        </p:spPr>
      </p:pic>
    </p:spTree>
  </p:cSld>
  <p:transition advTm="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What is Big 6?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e Big6 is a process model of how people of all ages solve an information problem. </a:t>
            </a:r>
            <a:r>
              <a:rPr b="0" lang="en-US" sz="600" spc="-1" strike="noStrike">
                <a:solidFill>
                  <a:srgbClr val="080808"/>
                </a:solidFill>
                <a:latin typeface="Arial"/>
              </a:rPr>
              <a:t>(Jansen 2009)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This process encompasses six stages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What are the 6 stages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ask Definition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Information Seeking Strategies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Location &amp; Access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Use of Information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ynthesis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Evaluation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Huh…Show me!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-457200">
              <a:spcBef>
                <a:spcPts val="601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Task Definition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What do we need to do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efine the problem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Identify the information needed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What does that look like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5" name="Content Placeholder 6" descr="Research Journal 2.JPG"/>
          <p:cNvPicPr/>
          <p:nvPr/>
        </p:nvPicPr>
        <p:blipFill>
          <a:blip r:embed="rId1"/>
          <a:stretch/>
        </p:blipFill>
        <p:spPr>
          <a:xfrm>
            <a:off x="5208480" y="2174760"/>
            <a:ext cx="2914920" cy="395136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Show me more…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7000"/>
          </a:bodyPr>
          <a:p>
            <a:pPr marL="351720" indent="-351720">
              <a:spcBef>
                <a:spcPts val="601"/>
              </a:spcBef>
              <a:buClr>
                <a:srgbClr val="080808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Information Seeking Strategi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What can we use to find what we need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etermine all possible sourc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lect the best sourc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What does that look like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0" name="Content Placeholder 6" descr="Research Journal 3.JPG"/>
          <p:cNvPicPr/>
          <p:nvPr/>
        </p:nvPicPr>
        <p:blipFill>
          <a:blip r:embed="rId1"/>
          <a:stretch/>
        </p:blipFill>
        <p:spPr>
          <a:xfrm>
            <a:off x="5011560" y="2174760"/>
            <a:ext cx="3308400" cy="395136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More more…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-457200">
              <a:spcBef>
                <a:spcPts val="601"/>
              </a:spcBef>
              <a:buClr>
                <a:srgbClr val="080808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Location &amp; Acce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Where can we find what we need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Locate sourc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nd information within sourc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What does that look like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5" name="Content Placeholder 6" descr="Research Journal 4.JPG"/>
          <p:cNvPicPr/>
          <p:nvPr/>
        </p:nvPicPr>
        <p:blipFill>
          <a:blip r:embed="rId1"/>
          <a:stretch/>
        </p:blipFill>
        <p:spPr>
          <a:xfrm>
            <a:off x="5192640" y="2174760"/>
            <a:ext cx="2946600" cy="395136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Ohhh…I’m getting it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-457200">
              <a:spcBef>
                <a:spcPts val="601"/>
              </a:spcBef>
              <a:buClr>
                <a:srgbClr val="080808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Use of information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What information can we use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Engage (e.g., read, hear, view, touch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Extract needed informatio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What does that look like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20" name="Content Placeholder 6" descr="Research Journal 5.JPG"/>
          <p:cNvPicPr/>
          <p:nvPr/>
        </p:nvPicPr>
        <p:blipFill>
          <a:blip r:embed="rId1"/>
          <a:stretch/>
        </p:blipFill>
        <p:spPr>
          <a:xfrm>
            <a:off x="4648320" y="2286000"/>
            <a:ext cx="2030400" cy="2666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Research Journal 6.JPG"/>
          <p:cNvPicPr/>
          <p:nvPr/>
        </p:nvPicPr>
        <p:blipFill>
          <a:blip r:embed="rId2"/>
          <a:stretch/>
        </p:blipFill>
        <p:spPr>
          <a:xfrm>
            <a:off x="6700680" y="3505320"/>
            <a:ext cx="2149560" cy="288612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There is more!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-457200">
              <a:spcBef>
                <a:spcPts val="601"/>
              </a:spcBef>
              <a:buClr>
                <a:srgbClr val="080808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How can we show what we learned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Organize Information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Present the resul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What does this look like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26" name="Content Placeholder 10" descr="Research Journal 7.JPG"/>
          <p:cNvPicPr/>
          <p:nvPr/>
        </p:nvPicPr>
        <p:blipFill>
          <a:blip r:embed="rId1"/>
          <a:stretch/>
        </p:blipFill>
        <p:spPr>
          <a:xfrm>
            <a:off x="4267080" y="2133720"/>
            <a:ext cx="2229120" cy="3047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Research Journal 8.JPG"/>
          <p:cNvPicPr/>
          <p:nvPr/>
        </p:nvPicPr>
        <p:blipFill>
          <a:blip r:embed="rId2"/>
          <a:stretch/>
        </p:blipFill>
        <p:spPr>
          <a:xfrm>
            <a:off x="6629400" y="3581280"/>
            <a:ext cx="2362320" cy="2907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Last but not least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-457200">
              <a:spcBef>
                <a:spcPts val="601"/>
              </a:spcBef>
              <a:buClr>
                <a:srgbClr val="080808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How will we know if we did well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Judge the result (effectiveness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Judge the process (efficiency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What does it look like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2" name="Content Placeholder 6" descr="Research Journal 9.JPG"/>
          <p:cNvPicPr/>
          <p:nvPr/>
        </p:nvPicPr>
        <p:blipFill>
          <a:blip r:embed="rId1"/>
          <a:stretch/>
        </p:blipFill>
        <p:spPr>
          <a:xfrm>
            <a:off x="4114800" y="2133720"/>
            <a:ext cx="2209680" cy="301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Research Journal 10.JPG"/>
          <p:cNvPicPr/>
          <p:nvPr/>
        </p:nvPicPr>
        <p:blipFill>
          <a:blip r:embed="rId2"/>
          <a:stretch/>
        </p:blipFill>
        <p:spPr>
          <a:xfrm>
            <a:off x="6400800" y="2895480"/>
            <a:ext cx="2509920" cy="340992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7:27:59Z</dcterms:created>
  <dc:creator>John &amp; Brandi</dc:creator>
  <dc:description/>
  <dc:language>en-US</dc:language>
  <cp:lastModifiedBy>John &amp; Brandi</cp:lastModifiedBy>
  <dcterms:modified xsi:type="dcterms:W3CDTF">2009-10-20T00:39:17Z</dcterms:modified>
  <cp:revision>36</cp:revision>
  <dc:subject/>
  <dc:title>Research=Big 6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01033</vt:lpwstr>
  </property>
</Properties>
</file>